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080-06E1-4470-8A57-F56BFAF3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C78-5AEC-490C-942C-5916687C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260-EE96-4F1B-93B1-61ADBB47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185-39B2-415E-99AF-72F87A4D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086A-B643-4CAF-8FA7-E897D5C4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6934-1300-423F-97CE-DADCEA14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57C7-DCD0-4D5B-BD91-7CBDB1AF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8321-B1B6-4946-A9D7-DA1331E9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6670-ABA5-40B9-88D1-09E0A6F1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0797-AA0B-47D0-A77C-6656F8B4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05D5-B799-4F9B-BD91-6B45526B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7F8-34EA-4B6C-898D-8365743E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2737-EA2F-44BE-A948-0DE5120A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94D1-EA3A-4D40-8142-F1324167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3A19-9A91-45B3-92C3-5081B514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7F91-0A93-4C4A-9480-3F4BA6F7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586A-731E-4136-A7AB-C7114247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979-045A-4A44-9AE9-B39B0012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027D-E8C9-4233-85D4-D349C08C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84F-72C1-4430-99A9-A728BC86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55D-5B09-4284-A9C0-82DB533A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CFB-198B-4251-BD71-5EF1CDEA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AEA-7437-4647-9788-ED28A343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59F-E1A3-42F5-ABB4-44A8B264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79D8-94B8-4295-9D77-BA2731A7C1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9AB1-C8DF-4C48-ADA6-3448DB8382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Закон сохранения энергии </a:t>
            </a:r>
            <a:br>
              <a:rPr sz="4400"/>
            </a:b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11 класс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 учитель физики 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льхова Е.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горитм решения задач на закон сохранения механической энергии</a:t>
            </a:r>
            <a:br>
              <a:rPr sz="20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Прочитать внимательно условие задачи, представляя себе наглядно процессы, описываемые в задач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Проанализируйте условие задачи:  проверьте, что входит в систему тел, является ли она замкнутой, как удобнее выбрать систему отсчёта, какую высоту принять за нулевой уровень энергии, какие законы сохранения в условиях этой задачи можно примен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Постройте модель процессов, описанных в данной задаче без расчё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Сделайте схематический чертёж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Установите первое и второе  положение системы тел, опишите модель, построенную вами, математически с помощью физических  форму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Выясните, как выразить неизвестную величину, если неизвестных оказывается больше одного, то к  уравнению закона сохранения энергии нужно добавить уравнение динамики или закона сохранения импульса, или формулы кинема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Выберите оптимальный способ решения уравнения или системы уравн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Подставьте числовые значения, рассчитайте требуемое в задаче зна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Проанализируй те полученный результ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. Сделайте вывод по задач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понят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щ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е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П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нетическая эне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енциальная эне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ческая эне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кнутая система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42920" y="285840"/>
          <a:ext cx="8858160" cy="6427800"/>
        </p:xfrm>
        <a:graphic>
          <a:graphicData uri="http://schemas.openxmlformats.org/drawingml/2006/table">
            <a:tbl>
              <a:tblPr/>
              <a:tblGrid>
                <a:gridCol w="4429080"/>
                <a:gridCol w="4429080"/>
              </a:tblGrid>
              <a:tr h="617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</a:rPr>
                        <a:t>РАБОТА И ЭНЕР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=FScos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еме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гол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  <a:ea typeface="Times New Roman"/>
                        </a:rPr>
                        <a:t>α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– угол между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=A/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=F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щ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кор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1188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ПД=(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полезн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Constantia"/>
                        </a:rPr>
                        <a:t>затрач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100%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f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Constantia"/>
                        </a:rPr>
                        <a:t>к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=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υ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Script MT Bold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2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нетическая энер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h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ая энер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x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ая энер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0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кон сохранения энерг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Constantia"/>
                        </a:rPr>
                        <a:t>к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Constantia"/>
                        </a:rPr>
                        <a:t>п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Constantia"/>
                        </a:rPr>
                        <a:t>к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Constantia"/>
                        </a:rPr>
                        <a:t>п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υ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2+mg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= m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υ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2+mg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υ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2+kx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2 = m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υ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2+kx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f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Задание №1 (преимущество метода решения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пределите максимальную скорость свободного падения камня с высоты 45м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0м/с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ы отв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180м/с; Б. 90м/с; В. 60м/с; Г. 30м/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№ 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2 Составь алгоритм решения задачи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3" descr="http://uchitel.3dn.ru/_ld/204/00442941.png"/>
          <p:cNvPicPr/>
          <p:nvPr/>
        </p:nvPicPr>
        <p:blipFill>
          <a:blip r:embed="rId1"/>
          <a:stretch/>
        </p:blipFill>
        <p:spPr>
          <a:xfrm>
            <a:off x="1066680" y="15238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Задание №3 решить самостоятельно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з массо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1кг падает с высот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240м и углубляется в песок 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0,2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среднюю силу сопротивления грунта, если начальная скорость падения груз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14м/с. Сопротивление воздуха не учит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е № 4 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решить у доск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амень брошен под некоторым углом к горизонту со скоростью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рисунок на листе). Пренебрегая сопротивлением воздуха, определите, на какой высоте от точки бросания скорость камня уменьшится вд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е №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эта машина не будет работ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1-20-2"/>
          <p:cNvPicPr/>
          <p:nvPr/>
        </p:nvPicPr>
        <p:blipFill>
          <a:blip r:embed="rId1"/>
          <a:stretch/>
        </p:blipFill>
        <p:spPr>
          <a:xfrm>
            <a:off x="1447920" y="2438280"/>
            <a:ext cx="6372000" cy="33991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терии оценки выполнения зада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ведено полное правильное решение, включающее следующие элемен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) верно записаны формулы, выражающие физические законы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 которых необходим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для решения задачи выбранным способом (в данном решении — закон сохранения импульса и закон сохранения энерги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) проведены необходимые математические преобразования и расчеты, приводящие к правильному числовому ответу, и представлен ответ. При этом допускается решение "по частям" (с промежуточными вычислениями). (3 балл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) Представлено правильное решение только в общем виде, без каких-либо числовых расчетов.ИЛ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ильно записаны необходимые формулы, записан правильный ответ, но не представлены преобразования, приводящие к отве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ЛИ— В математических преобразованиях или вычислениях допущена ошибка, которая привела к неверному ответу. (2 балл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ешении содержится ошибка в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еобходимы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атематических преобразованиях, и отсутствуют какие-либо числовые расче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ЛИ— Записаны и использованы не все исходные формулы, необходимые для решения задачи, или в ОДНОЙ из них допущена ошибка. (1 бал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случаи решения, которые не соответствуют вышеуказанным  критериям  выставления оценок в 1, 2, 3 балла (использование неприменимого закона, отсутствие более одного исходного уравнения, разрозненные записи и т.п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льхова Е.А., Дубова О.П.,Дацковская Л.А.</dc:creator>
  <dc:description/>
  <cp:keywords>КИМ по кинематике система оценивания</cp:keywords>
  <dc:language>en-US</dc:language>
  <cp:lastModifiedBy>User</cp:lastModifiedBy>
  <dcterms:modified xsi:type="dcterms:W3CDTF">2016-09-25T04:11:16Z</dcterms:modified>
  <cp:revision>55</cp:revision>
  <dc:subject>Разработка заданий КИМ по кинематике</dc:subject>
  <dc:title>КИМ по кинемати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